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EB7-56D5-4C34-A2CA-F285CB74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840-B911-4CD4-8557-678DD9B6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EA9-5A47-4BED-91D0-6B1AD68E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7D1-5F26-4B16-8954-30A6CDDA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9E5-5186-44A1-BEF8-B527E7AF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4BB-6E5B-46AB-A5D4-DBBC3E14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769-D8EC-42D9-9D3F-7B0AA510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DD0F-0ACB-4533-BBC3-B285F6BF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3E8A-4A54-42CD-8CC5-4102D021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3BD-3346-487C-9893-2A684B77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C53F-51EB-492B-AF03-880D81A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4AD-0196-4DD4-83E8-497B274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FE8-1095-479E-A5B9-600073E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906E-4A46-4558-BD05-ED0CDF3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0B3A-0244-4D66-8761-9B417C6C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B43C-794C-43BB-87C7-478B508E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259E-20BF-4250-9FF8-EC260A6B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2778-BC19-437A-AC80-E8FEACCF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A3B5-D30A-4629-BBA7-662D54CF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A386-9B34-4950-9C51-5D65F81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C793-576D-4212-83A8-4364DB6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7AAD-BB3E-450C-B13F-DC65CF94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EB0-C2BB-4BD5-AB37-95339CBB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8B79-57DB-4479-AF17-2171A7FE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8C2E-55BB-4651-87F2-EF372F8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43A9-7D9D-40CA-8EB2-CA844D5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7668-F7C6-40E0-9615-E41661A2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A9AD-3E6E-4E0A-82F7-697ACBC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4FEF-A5E6-4BD8-8722-5F9C832E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A258-751C-4B33-A703-6565940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5B5-6967-4CEF-953B-633AF869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03D-96BA-4A6F-9F70-E859397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BA2-3B3E-44FC-8822-747ABBFF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04D-B1E8-4D2E-B8E8-0173FE7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505-FD6B-49A8-9EC7-A61C3E3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0E4-269C-416D-A41F-CF1AADD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-6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8954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158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833854-D4AB-4617-9412-B0D037094D86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7" name="Straight Connector 11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8" name="TextBox 12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-612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2E459-D7E8-40F1-9FCD-175F2A7E3CCA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Connector 9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55" name="TextBox 10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7010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8FF791-5366-4ED9-8CC7-C91DE4A0B837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101" name="Straight Connector 10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102" name="TextBox 11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itle of the Presentation</a:t>
            </a: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4266720" cy="44193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Name/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City,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64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GDP/capita, etc</a:t>
            </a: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8b8b8b"/>
                </a:solidFill>
                <a:latin typeface="Calibri"/>
              </a:rPr>
              <a:t>DO NOT USE FONT SMALLER THAN 20 THROUGHOUT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8b8b8b"/>
                </a:solidFill>
                <a:latin typeface="Calibri"/>
              </a:rPr>
              <a:t>When saving your fi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8b8b8b"/>
                </a:solidFill>
                <a:latin typeface="Calibri"/>
              </a:rPr>
              <a:t>give name as follows: </a:t>
            </a:r>
            <a:r>
              <a:rPr b="1" lang="es-ES" sz="2400" spc="-1" strike="noStrike" u="sng">
                <a:solidFill>
                  <a:srgbClr val="8b8b8b"/>
                </a:solidFill>
                <a:uFillTx/>
                <a:latin typeface="Calibri"/>
              </a:rPr>
              <a:t>country_your name_2018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2"/>
          <p:cNvSpPr/>
          <p:nvPr/>
        </p:nvSpPr>
        <p:spPr>
          <a:xfrm>
            <a:off x="4572000" y="1295280"/>
            <a:ext cx="4419360" cy="4419360"/>
          </a:xfrm>
          <a:prstGeom prst="rect">
            <a:avLst/>
          </a:pr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Map, Illustration, Desig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0" y="-6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277-9906-4749-937E-EAC81EBC7D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ain Urban Challenge/Priority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tion to the best practice urban challenge that was tackled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1"/>
          </p:nvPr>
        </p:nvSpPr>
        <p:spPr>
          <a:xfrm>
            <a:off x="-612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C184-5459-42D4-BFB2-40ED8AECBC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ject Intervention(s)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riefing bullet lines about the project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266720" cy="45255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d an illustration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12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14C4-593F-4036-84FA-A8E31856D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sitive outcomes arising from the intervention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3"/>
          </p:nvPr>
        </p:nvSpPr>
        <p:spPr>
          <a:xfrm>
            <a:off x="17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3C45-AD67-4973-AB2E-5A1B970DE4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arning points for sharing with the class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4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3D92-E990-4287-9AA7-4FC94EBF3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5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0" y="2438280"/>
            <a:ext cx="9143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2E2F-3AC9-4608-9C7E-EFA4C7371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Words>140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9:11:05Z</dcterms:created>
  <dc:creator>Claudio Acioly</dc:creator>
  <dc:description/>
  <dc:language>en-US</dc:language>
  <cp:lastModifiedBy>Zuzana Vuova</cp:lastModifiedBy>
  <dcterms:modified xsi:type="dcterms:W3CDTF">2018-05-31T14:26:09Z</dcterms:modified>
  <cp:revision>10</cp:revision>
  <dc:subject/>
  <dc:title>Title of th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