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5A1-17EA-48B2-9D1A-49455624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62D-CA6F-49D5-BA1F-15A4E974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F86-E149-4C20-B8CE-1840E702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51E-BF43-450B-A5EC-1CC47565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DCE4-CBD3-44B2-B59E-7084F687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138-1F52-4FFF-A3AC-0D07C0CA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2003-0BB0-45B4-8438-2B5C0D88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86C5-D646-4DF4-8058-D444F18F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B2ED-9AB4-4764-9339-C924F4BC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91C2-DA75-418C-9B87-039DFCC2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82BF-E602-4F5A-9F95-EB6E9829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73D-EA64-4D78-ADA7-F20F9E63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01D5-4BFB-4491-878D-97CC9173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A03B-29A2-468C-8045-20710CE8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BF6A-DCD7-482B-9DF5-93E64485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C461-8FE0-4DEF-9E3A-DF7439B7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8DE2-057B-4897-9C3A-3C5D39A5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2B12-2833-4D7E-B10E-2DCAFA90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6C08-BD20-4AE3-B88A-396EFB21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621A-A6F1-404B-9B05-A7B01444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BAFC-12FE-4A83-A356-927399F9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5E2F-4CA4-447E-B142-F90CFDFC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A14-71F2-4243-8049-A46C2FF0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82D0-3AA4-4C55-BC69-65CF7B7E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562E-9747-4837-8519-3D2CEDC0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4D9B-8CB7-4E47-95B6-09B338D6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6B4B-099F-4CC4-BD3F-40D6DE4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CA72F-65C7-4986-B06D-7371AB99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A77F-DD18-44DD-ADD6-571B4288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41E8-94A2-44DE-955F-20CBA364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9D5-D36C-44B3-9CE8-41D3FFDA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4E1-E950-4C36-930A-F64DBBD5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537-C3D5-4BAB-BFE2-85E1949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371-C03C-434C-B8C7-14416E0B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216-7942-402A-93CD-271E40A5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7FD-38CA-45DD-9F5F-5029E535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-6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895480" y="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158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s-E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A4A017-9B93-4B37-8F2F-ACC20868067E}" type="slidenum">
              <a:rPr b="1" lang="es-ES" sz="16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rcRect l="22491" t="24066" r="23117" b="21781"/>
          <a:stretch/>
        </p:blipFill>
        <p:spPr>
          <a:xfrm>
            <a:off x="0" y="6029640"/>
            <a:ext cx="1764720" cy="9806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3"/>
          <a:stretch/>
        </p:blipFill>
        <p:spPr>
          <a:xfrm>
            <a:off x="3200400" y="6363000"/>
            <a:ext cx="2437920" cy="494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4"/>
          <a:stretch/>
        </p:blipFill>
        <p:spPr>
          <a:xfrm>
            <a:off x="7162920" y="6095880"/>
            <a:ext cx="1980720" cy="802800"/>
          </a:xfrm>
          <a:prstGeom prst="rect">
            <a:avLst/>
          </a:prstGeom>
          <a:ln w="0">
            <a:noFill/>
          </a:ln>
        </p:spPr>
      </p:pic>
      <p:cxnSp>
        <p:nvCxnSpPr>
          <p:cNvPr id="7" name="Straight Connector 11"/>
          <p:cNvCxnSpPr/>
          <p:nvPr/>
        </p:nvCxnSpPr>
        <p:spPr>
          <a:xfrm>
            <a:off x="0" y="6029280"/>
            <a:ext cx="9144360" cy="360"/>
          </a:xfrm>
          <a:prstGeom prst="straightConnector1">
            <a:avLst/>
          </a:prstGeom>
          <a:ln w="76200">
            <a:solidFill>
              <a:srgbClr val="1f497d">
                <a:lumMod val="60000"/>
                <a:lumOff val="40000"/>
              </a:srgbClr>
            </a:solidFill>
            <a:round/>
          </a:ln>
        </p:spPr>
      </p:cxnSp>
      <p:sp>
        <p:nvSpPr>
          <p:cNvPr id="8" name="TextBox 12"/>
          <p:cNvSpPr/>
          <p:nvPr/>
        </p:nvSpPr>
        <p:spPr>
          <a:xfrm>
            <a:off x="1676520" y="6019920"/>
            <a:ext cx="5866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national Leaders In Urban Governance Programme,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-612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s-E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F512BD-F008-446C-B126-96A6E5D274FF}" type="slidenum">
              <a:rPr b="1" lang="es-E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rcRect l="22491" t="24066" r="23117" b="21781"/>
          <a:stretch/>
        </p:blipFill>
        <p:spPr>
          <a:xfrm>
            <a:off x="0" y="6029640"/>
            <a:ext cx="1764720" cy="98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3200400" y="6363000"/>
            <a:ext cx="2437920" cy="49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7162920" y="6095880"/>
            <a:ext cx="1980720" cy="8028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Connector 9"/>
          <p:cNvCxnSpPr/>
          <p:nvPr/>
        </p:nvCxnSpPr>
        <p:spPr>
          <a:xfrm>
            <a:off x="0" y="6029280"/>
            <a:ext cx="9144360" cy="360"/>
          </a:xfrm>
          <a:prstGeom prst="straightConnector1">
            <a:avLst/>
          </a:prstGeom>
          <a:ln w="76200">
            <a:solidFill>
              <a:srgbClr val="1f497d">
                <a:lumMod val="60000"/>
                <a:lumOff val="40000"/>
              </a:srgbClr>
            </a:solidFill>
            <a:round/>
          </a:ln>
        </p:spPr>
      </p:cxnSp>
      <p:sp>
        <p:nvSpPr>
          <p:cNvPr id="55" name="TextBox 10"/>
          <p:cNvSpPr/>
          <p:nvPr/>
        </p:nvSpPr>
        <p:spPr>
          <a:xfrm>
            <a:off x="1676520" y="6019920"/>
            <a:ext cx="5866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national Leaders In Urban Governance Programme,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701028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s-E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41E39D-C143-412E-ACAD-8941E278515B}" type="slidenum">
              <a:rPr b="1" lang="es-E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rcRect l="22491" t="24066" r="23117" b="21781"/>
          <a:stretch/>
        </p:blipFill>
        <p:spPr>
          <a:xfrm>
            <a:off x="0" y="6029640"/>
            <a:ext cx="1764720" cy="98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200400" y="6363000"/>
            <a:ext cx="2437920" cy="494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4"/>
          <a:stretch/>
        </p:blipFill>
        <p:spPr>
          <a:xfrm>
            <a:off x="7162920" y="6095880"/>
            <a:ext cx="1980720" cy="802800"/>
          </a:xfrm>
          <a:prstGeom prst="rect">
            <a:avLst/>
          </a:prstGeom>
          <a:ln w="0">
            <a:noFill/>
          </a:ln>
        </p:spPr>
      </p:pic>
      <p:cxnSp>
        <p:nvCxnSpPr>
          <p:cNvPr id="101" name="Straight Connector 10"/>
          <p:cNvCxnSpPr/>
          <p:nvPr/>
        </p:nvCxnSpPr>
        <p:spPr>
          <a:xfrm>
            <a:off x="0" y="6029280"/>
            <a:ext cx="9144360" cy="360"/>
          </a:xfrm>
          <a:prstGeom prst="straightConnector1">
            <a:avLst/>
          </a:prstGeom>
          <a:ln w="76200">
            <a:solidFill>
              <a:srgbClr val="1f497d">
                <a:lumMod val="60000"/>
                <a:lumOff val="40000"/>
              </a:srgbClr>
            </a:solidFill>
            <a:round/>
          </a:ln>
        </p:spPr>
      </p:cxnSp>
      <p:sp>
        <p:nvSpPr>
          <p:cNvPr id="102" name="TextBox 11"/>
          <p:cNvSpPr/>
          <p:nvPr/>
        </p:nvSpPr>
        <p:spPr>
          <a:xfrm>
            <a:off x="1676520" y="6019920"/>
            <a:ext cx="5866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national Leaders In Urban Governance Programme,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itle of the Presentation</a:t>
            </a: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4266720" cy="44193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txBody>
          <a:bodyPr anchor="t">
            <a:normAutofit fontScale="97000"/>
          </a:bodyPr>
          <a:p>
            <a:pPr marL="273960" indent="-2739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Name/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City, Count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100000"/>
              </a:lnSpc>
              <a:spcBef>
                <a:spcPts val="64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GDP/capita, etc</a:t>
            </a:r>
            <a:r>
              <a:rPr b="0" lang="es-ES" sz="3200" spc="-1" strike="noStrike">
                <a:solidFill>
                  <a:srgbClr val="8b8b8b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ES" sz="3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8b8b8b"/>
                </a:solidFill>
                <a:latin typeface="Calibri"/>
              </a:rPr>
              <a:t>DO NOT USE FONT SMALLER THAN 20 THROUGHOUT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8b8b8b"/>
                </a:solidFill>
                <a:latin typeface="Calibri"/>
              </a:rPr>
              <a:t>When saving your fi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8b8b8b"/>
                </a:solidFill>
                <a:latin typeface="Calibri"/>
              </a:rPr>
              <a:t>give name as follows: </a:t>
            </a:r>
            <a:r>
              <a:rPr b="1" lang="es-ES" sz="2400" spc="-1" strike="noStrike" u="sng">
                <a:solidFill>
                  <a:srgbClr val="8b8b8b"/>
                </a:solidFill>
                <a:uFillTx/>
                <a:latin typeface="Calibri"/>
              </a:rPr>
              <a:t>country_your name_2018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2"/>
          <p:cNvSpPr/>
          <p:nvPr/>
        </p:nvSpPr>
        <p:spPr>
          <a:xfrm>
            <a:off x="4572000" y="1295280"/>
            <a:ext cx="4419360" cy="4419360"/>
          </a:xfrm>
          <a:prstGeom prst="rect">
            <a:avLst/>
          </a:pr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s-ES" sz="3200" spc="-1" strike="noStrike">
                <a:solidFill>
                  <a:srgbClr val="8b8b8b"/>
                </a:solidFill>
                <a:latin typeface="Calibri"/>
              </a:rPr>
              <a:t>Map, Illustration, Desig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0" y="-6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A8A-1CD1-4DB4-A449-A92C69176D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ain Urban Challenge/Priority 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tion to the best practice urban challenge that was tackled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1"/>
          </p:nvPr>
        </p:nvSpPr>
        <p:spPr>
          <a:xfrm>
            <a:off x="-612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430A-3851-40DD-8CEB-08725D9CB6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ject Intervention(s)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riefing bullet lines about the project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266720" cy="45255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d an illustration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dt" idx="12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5B7F-0CBF-4378-9E44-ADD5D48B94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sitive outcomes arising from the intervention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3"/>
          </p:nvPr>
        </p:nvSpPr>
        <p:spPr>
          <a:xfrm>
            <a:off x="1728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CDD7-703B-4943-8F2D-22FFE12F8B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arning points for sharing with the class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4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642E1-A1C4-4CB6-A04D-608EE49E0F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dt" idx="15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0" y="2438280"/>
            <a:ext cx="9143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14A0-D34C-4C5D-B2C6-77B1316034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  <Words>140</Words>
  <Paragraphs>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9:11:05Z</dcterms:created>
  <dc:creator>Claudio Acioly</dc:creator>
  <dc:description/>
  <dc:language>en-US</dc:language>
  <cp:lastModifiedBy>Zuzana Vuova</cp:lastModifiedBy>
  <dcterms:modified xsi:type="dcterms:W3CDTF">2018-05-31T14:26:09Z</dcterms:modified>
  <cp:revision>10</cp:revision>
  <dc:subject/>
  <dc:title>Title of the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