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D339-7CB6-4095-A836-8BBF7909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7660-05B7-4588-8736-F318840E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3852-8F9F-4C69-BD59-80D2E5DD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CB16-4D9B-499C-AF44-21F6FD1C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40CE-F417-497B-A25C-B9B90696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7567-8B4E-4DBB-A320-24199F00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F3C2-98ED-44CF-897D-A0FAB0D2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A2FB-CE7B-4773-ABD0-A9939632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2966-C74C-4B88-A232-51929728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4A63-9C35-460B-B1BD-CE0E5E9B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0F21-5FB0-46DB-8516-6CF5299A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71B6-9806-4E3D-84C4-27EE2A60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A4A5-CB81-4A9A-915B-92B12EFB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6EC2-ED18-4EAF-ADB8-27FEED89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5C50-E555-43BA-BC50-D3230065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ADA1-F23A-4933-B697-27DF6A56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1CA5-1CCC-4EBC-9B61-DEE0F487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369ED-125A-49DF-A914-46CDC9EE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A7992-0981-474C-A1CE-B6B07D90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7CCB9-5B66-459C-8855-9E821528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719C2-0ABF-4E33-A361-E5F6A350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8034D-1613-4A7D-AD7D-137C5602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13E2-8F58-4540-9874-60282C51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2FD95-DB40-4BE3-B819-2AEB67FE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1E363-780C-483A-A067-500320A9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37BAF-CF8A-4229-AC3B-833DAA60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319C0-35DA-4A7E-8D6A-BDEEC555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CD3B5-616D-43DD-8DAD-514A586D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D7E48-BB51-4836-93D2-22C108F1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70AF4-4541-42FA-8A70-C3D98A16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A662-A0F7-4F6D-B318-36882033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7DD8-C139-4DBB-9EC5-5473DE83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77FC-A129-41FC-9B17-C59CE519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7CCE-E854-4288-966A-5E8C0BCD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FB03-3A96-42A3-9974-2AEF1CFF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9F5D-95CF-4F3B-82F3-78611105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0" y="-6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895480" y="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158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s-ES" sz="16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58B3EE-C0B8-43E7-B484-7D1DD34A160F}" type="slidenum">
              <a:rPr b="1" lang="es-ES" sz="1600" spc="-1" strike="noStrike">
                <a:solidFill>
                  <a:srgbClr val="8b8b8b"/>
                </a:solidFill>
                <a:latin typeface="Calibri"/>
              </a:rPr>
              <a:t>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rcRect l="22491" t="24066" r="23117" b="21781"/>
          <a:stretch/>
        </p:blipFill>
        <p:spPr>
          <a:xfrm>
            <a:off x="0" y="6029640"/>
            <a:ext cx="1764720" cy="9806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"/>
          <p:cNvPicPr/>
          <p:nvPr/>
        </p:nvPicPr>
        <p:blipFill>
          <a:blip r:embed="rId3"/>
          <a:stretch/>
        </p:blipFill>
        <p:spPr>
          <a:xfrm>
            <a:off x="3200400" y="6363000"/>
            <a:ext cx="2437920" cy="494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4"/>
          <a:stretch/>
        </p:blipFill>
        <p:spPr>
          <a:xfrm>
            <a:off x="7162920" y="6095880"/>
            <a:ext cx="1980720" cy="802800"/>
          </a:xfrm>
          <a:prstGeom prst="rect">
            <a:avLst/>
          </a:prstGeom>
          <a:ln w="0">
            <a:noFill/>
          </a:ln>
        </p:spPr>
      </p:pic>
      <p:cxnSp>
        <p:nvCxnSpPr>
          <p:cNvPr id="7" name="Straight Connector 11"/>
          <p:cNvCxnSpPr/>
          <p:nvPr/>
        </p:nvCxnSpPr>
        <p:spPr>
          <a:xfrm>
            <a:off x="0" y="6029280"/>
            <a:ext cx="9144360" cy="360"/>
          </a:xfrm>
          <a:prstGeom prst="straightConnector1">
            <a:avLst/>
          </a:prstGeom>
          <a:ln w="76200">
            <a:solidFill>
              <a:srgbClr val="1f497d">
                <a:lumMod val="60000"/>
                <a:lumOff val="40000"/>
              </a:srgbClr>
            </a:solidFill>
            <a:round/>
          </a:ln>
        </p:spPr>
      </p:cxnSp>
      <p:sp>
        <p:nvSpPr>
          <p:cNvPr id="8" name="TextBox 12"/>
          <p:cNvSpPr/>
          <p:nvPr/>
        </p:nvSpPr>
        <p:spPr>
          <a:xfrm>
            <a:off x="1676520" y="6019920"/>
            <a:ext cx="5866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International Leaders In Urban Governance Programme, 20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-6120" y="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010280" y="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s-ES" sz="16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18461E-3423-40FE-B2ED-CFFC2D6DEB0A}" type="slidenum">
              <a:rPr b="1" lang="es-ES" sz="16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rcRect l="22491" t="24066" r="23117" b="21781"/>
          <a:stretch/>
        </p:blipFill>
        <p:spPr>
          <a:xfrm>
            <a:off x="0" y="6029640"/>
            <a:ext cx="1764720" cy="980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3"/>
          <a:stretch/>
        </p:blipFill>
        <p:spPr>
          <a:xfrm>
            <a:off x="3200400" y="6363000"/>
            <a:ext cx="2437920" cy="494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4"/>
          <a:stretch/>
        </p:blipFill>
        <p:spPr>
          <a:xfrm>
            <a:off x="7162920" y="6095880"/>
            <a:ext cx="1980720" cy="80280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Connector 9"/>
          <p:cNvCxnSpPr/>
          <p:nvPr/>
        </p:nvCxnSpPr>
        <p:spPr>
          <a:xfrm>
            <a:off x="0" y="6029280"/>
            <a:ext cx="9144360" cy="360"/>
          </a:xfrm>
          <a:prstGeom prst="straightConnector1">
            <a:avLst/>
          </a:prstGeom>
          <a:ln w="76200">
            <a:solidFill>
              <a:srgbClr val="1f497d">
                <a:lumMod val="60000"/>
                <a:lumOff val="40000"/>
              </a:srgbClr>
            </a:solidFill>
            <a:round/>
          </a:ln>
        </p:spPr>
      </p:cxnSp>
      <p:sp>
        <p:nvSpPr>
          <p:cNvPr id="55" name="TextBox 10"/>
          <p:cNvSpPr/>
          <p:nvPr/>
        </p:nvSpPr>
        <p:spPr>
          <a:xfrm>
            <a:off x="1676520" y="6019920"/>
            <a:ext cx="5866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International Leaders In Urban Governance Programme, 20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s-E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s-E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0" y="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7010280" y="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s-ES" sz="16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0C8AEF-FAD5-400D-A1C8-49146C55B721}" type="slidenum">
              <a:rPr b="1" lang="es-ES" sz="16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2"/>
          <a:srcRect l="22491" t="24066" r="23117" b="21781"/>
          <a:stretch/>
        </p:blipFill>
        <p:spPr>
          <a:xfrm>
            <a:off x="0" y="6029640"/>
            <a:ext cx="1764720" cy="980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3"/>
          <a:stretch/>
        </p:blipFill>
        <p:spPr>
          <a:xfrm>
            <a:off x="3200400" y="6363000"/>
            <a:ext cx="2437920" cy="494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"/>
          <p:cNvPicPr/>
          <p:nvPr/>
        </p:nvPicPr>
        <p:blipFill>
          <a:blip r:embed="rId4"/>
          <a:stretch/>
        </p:blipFill>
        <p:spPr>
          <a:xfrm>
            <a:off x="7162920" y="6095880"/>
            <a:ext cx="1980720" cy="802800"/>
          </a:xfrm>
          <a:prstGeom prst="rect">
            <a:avLst/>
          </a:prstGeom>
          <a:ln w="0">
            <a:noFill/>
          </a:ln>
        </p:spPr>
      </p:pic>
      <p:cxnSp>
        <p:nvCxnSpPr>
          <p:cNvPr id="101" name="Straight Connector 10"/>
          <p:cNvCxnSpPr/>
          <p:nvPr/>
        </p:nvCxnSpPr>
        <p:spPr>
          <a:xfrm>
            <a:off x="0" y="6029280"/>
            <a:ext cx="9144360" cy="360"/>
          </a:xfrm>
          <a:prstGeom prst="straightConnector1">
            <a:avLst/>
          </a:prstGeom>
          <a:ln w="76200">
            <a:solidFill>
              <a:srgbClr val="1f497d">
                <a:lumMod val="60000"/>
                <a:lumOff val="40000"/>
              </a:srgbClr>
            </a:solidFill>
            <a:round/>
          </a:ln>
        </p:spPr>
      </p:cxnSp>
      <p:sp>
        <p:nvSpPr>
          <p:cNvPr id="102" name="TextBox 11"/>
          <p:cNvSpPr/>
          <p:nvPr/>
        </p:nvSpPr>
        <p:spPr>
          <a:xfrm>
            <a:off x="1676520" y="6019920"/>
            <a:ext cx="5866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International Leaders In Urban Governance Programme, 20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Title of the Presentation</a:t>
            </a:r>
            <a:endParaRPr b="0" lang="es-E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52280" y="1295280"/>
            <a:ext cx="4266720" cy="441936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txBody>
          <a:bodyPr anchor="t">
            <a:normAutofit fontScale="97000"/>
          </a:bodyPr>
          <a:p>
            <a:pPr marL="273960" indent="-273960">
              <a:lnSpc>
                <a:spcPct val="100000"/>
              </a:lnSpc>
              <a:spcBef>
                <a:spcPts val="561"/>
              </a:spcBef>
              <a:buClr>
                <a:srgbClr val="8b8b8b"/>
              </a:buClr>
              <a:buFont typeface="Arial"/>
              <a:buChar char="•"/>
            </a:pPr>
            <a:r>
              <a:rPr b="0" lang="es-ES" sz="2800" spc="-1" strike="noStrike">
                <a:solidFill>
                  <a:srgbClr val="8b8b8b"/>
                </a:solidFill>
                <a:latin typeface="Calibri"/>
              </a:rPr>
              <a:t>Name/Tea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lnSpc>
                <a:spcPct val="100000"/>
              </a:lnSpc>
              <a:spcBef>
                <a:spcPts val="561"/>
              </a:spcBef>
              <a:buClr>
                <a:srgbClr val="8b8b8b"/>
              </a:buClr>
              <a:buFont typeface="Arial"/>
              <a:buChar char="•"/>
            </a:pPr>
            <a:r>
              <a:rPr b="0" lang="es-ES" sz="2800" spc="-1" strike="noStrike">
                <a:solidFill>
                  <a:srgbClr val="8b8b8b"/>
                </a:solidFill>
                <a:latin typeface="Calibri"/>
              </a:rPr>
              <a:t>City, Countr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lnSpc>
                <a:spcPct val="100000"/>
              </a:lnSpc>
              <a:spcBef>
                <a:spcPts val="561"/>
              </a:spcBef>
              <a:buClr>
                <a:srgbClr val="8b8b8b"/>
              </a:buClr>
              <a:buFont typeface="Arial"/>
              <a:buChar char="•"/>
            </a:pPr>
            <a:r>
              <a:rPr b="0" lang="es-ES" sz="2800" spc="-1" strike="noStrike">
                <a:solidFill>
                  <a:srgbClr val="8b8b8b"/>
                </a:solidFill>
                <a:latin typeface="Calibri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960" indent="-273960">
              <a:lnSpc>
                <a:spcPct val="100000"/>
              </a:lnSpc>
              <a:spcBef>
                <a:spcPts val="641"/>
              </a:spcBef>
              <a:buClr>
                <a:srgbClr val="8b8b8b"/>
              </a:buClr>
              <a:buFont typeface="Arial"/>
              <a:buChar char="•"/>
            </a:pPr>
            <a:r>
              <a:rPr b="0" lang="es-ES" sz="2800" spc="-1" strike="noStrike">
                <a:solidFill>
                  <a:srgbClr val="8b8b8b"/>
                </a:solidFill>
                <a:latin typeface="Calibri"/>
              </a:rPr>
              <a:t>GDP/capita, etc</a:t>
            </a:r>
            <a:r>
              <a:rPr b="0" lang="es-ES" sz="3200" spc="-1" strike="noStrike">
                <a:solidFill>
                  <a:srgbClr val="8b8b8b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s-ES" sz="32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" sz="2000" spc="-1" strike="noStrike">
                <a:solidFill>
                  <a:srgbClr val="8b8b8b"/>
                </a:solidFill>
                <a:latin typeface="Calibri"/>
              </a:rPr>
              <a:t>DO NOT USE FONT SMALLER THAN 20 THROUGHOUT THE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" sz="2400" spc="-1" strike="noStrike">
                <a:solidFill>
                  <a:srgbClr val="8b8b8b"/>
                </a:solidFill>
                <a:latin typeface="Calibri"/>
              </a:rPr>
              <a:t>When saving your fi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" sz="2400" spc="-1" strike="noStrike">
                <a:solidFill>
                  <a:srgbClr val="8b8b8b"/>
                </a:solidFill>
                <a:latin typeface="Calibri"/>
              </a:rPr>
              <a:t>give name as follows: </a:t>
            </a:r>
            <a:r>
              <a:rPr b="1" lang="es-ES" sz="2400" spc="-1" strike="noStrike" u="sng">
                <a:solidFill>
                  <a:srgbClr val="8b8b8b"/>
                </a:solidFill>
                <a:uFillTx/>
                <a:latin typeface="Calibri"/>
              </a:rPr>
              <a:t>country_your name_2018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ubtitle 2"/>
          <p:cNvSpPr/>
          <p:nvPr/>
        </p:nvSpPr>
        <p:spPr>
          <a:xfrm>
            <a:off x="4572000" y="1295280"/>
            <a:ext cx="4419360" cy="4419360"/>
          </a:xfrm>
          <a:prstGeom prst="rect">
            <a:avLst/>
          </a:pr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es-ES" sz="3200" spc="-1" strike="noStrike">
                <a:solidFill>
                  <a:srgbClr val="8b8b8b"/>
                </a:solidFill>
                <a:latin typeface="Calibri"/>
              </a:rPr>
              <a:t>Map, Illustration, Desig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0" y="-60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Submit by: 30 June 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1BCC-2C23-451C-AA68-26D6969AEB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6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ain Urban Challenge/Priority 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troduction to the best practice urban challenge that was tackled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1"/>
          </p:nvPr>
        </p:nvSpPr>
        <p:spPr>
          <a:xfrm>
            <a:off x="-6120" y="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Submit by: 30 June 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95B7-3095-4534-AFDA-9D0E68E1CB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roject Intervention(s)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Briefing bullet lines about the project</a:t>
            </a: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266720" cy="452556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dd an illustration</a:t>
            </a: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dt" idx="12"/>
          </p:nvPr>
        </p:nvSpPr>
        <p:spPr>
          <a:xfrm>
            <a:off x="0" y="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Submit by: 30 June 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8A869-7FBD-4CF1-8312-38BA71CBBC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ositive outcomes arising from the intervention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3"/>
          </p:nvPr>
        </p:nvSpPr>
        <p:spPr>
          <a:xfrm>
            <a:off x="17280" y="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Submit by: 30 June 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22835-9F3B-470B-9AAA-905EEB7F5C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earning points for sharing with the class</a:t>
            </a: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14"/>
          </p:nvPr>
        </p:nvSpPr>
        <p:spPr>
          <a:xfrm>
            <a:off x="0" y="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Submit by: 30 June 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s-E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E2763-C3A7-47E7-ACC6-0448621C54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dt" idx="15"/>
          </p:nvPr>
        </p:nvSpPr>
        <p:spPr>
          <a:xfrm>
            <a:off x="0" y="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Submit by: 30 June 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0" y="2438280"/>
            <a:ext cx="9143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1ABAC-B12C-4291-A09C-1F15340BA6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  <Words>140</Words>
  <Paragraphs>3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2T09:11:05Z</dcterms:created>
  <dc:creator>Claudio Acioly</dc:creator>
  <dc:description/>
  <dc:language>en-US</dc:language>
  <cp:lastModifiedBy>Zuzana Vuova</cp:lastModifiedBy>
  <dcterms:modified xsi:type="dcterms:W3CDTF">2018-05-31T14:26:09Z</dcterms:modified>
  <cp:revision>10</cp:revision>
  <dc:subject/>
  <dc:title>Title of the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6</vt:r8>
  </property>
</Properties>
</file>